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1CAE-9793-4D47-B5B4-8ABD1BA7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7021-01A8-4AFF-9758-92B4DEDF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353-0131-47B9-B90F-E8EF9278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A66-15E5-47AB-BDEC-19BF06C9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1171-A201-4575-9FF0-39C55E2F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6898-3477-4FBB-872D-3B281892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3476-BD1A-45A4-A7EA-8DD3107F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F497-90D4-4C56-93AD-0F79800C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FB9C-291C-45E0-B2A3-CCB8BCB7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5491-BF9E-4BA6-9CB4-F5DA5265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ABE4-18BB-49FC-B9C9-A690C9DA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D049-49B9-4710-AF47-F9AD446E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ell Home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09E6-5B11-4D91-A82B-4CF585218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5333760" y="64008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456840" y="64008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rId2" action="ppaction://hlinksldjump"/>
          </p:cNvPr>
          <p:cNvSpPr/>
          <p:nvPr/>
        </p:nvSpPr>
        <p:spPr>
          <a:xfrm>
            <a:off x="320040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95760" y="406440"/>
            <a:ext cx="87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3160" y="406440"/>
            <a:ext cx="888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94360" y="1841400"/>
            <a:ext cx="863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07160" y="3429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08840" y="4762440"/>
            <a:ext cx="863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00680" y="5905440"/>
            <a:ext cx="888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3120" y="4673520"/>
            <a:ext cx="87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1892160"/>
            <a:ext cx="888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3080" y="450720"/>
            <a:ext cx="8972640" cy="5981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87920" y="1739880"/>
            <a:ext cx="271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51040" y="2413080"/>
            <a:ext cx="1587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40280" y="5308560"/>
            <a:ext cx="20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863640" y="2400480"/>
            <a:ext cx="149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762120" y="48006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76212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on the labels to learn more about each component of a c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60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95760" y="419040"/>
            <a:ext cx="87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83160" y="419040"/>
            <a:ext cx="888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94360" y="1854360"/>
            <a:ext cx="863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07160" y="3441600"/>
            <a:ext cx="8636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08840" y="4775040"/>
            <a:ext cx="863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00680" y="5918040"/>
            <a:ext cx="8888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73120" y="4686480"/>
            <a:ext cx="87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1905120"/>
            <a:ext cx="88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3360" y="444600"/>
            <a:ext cx="8991720" cy="5994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587920" y="1752480"/>
            <a:ext cx="271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51040" y="2425680"/>
            <a:ext cx="1587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40280" y="5321160"/>
            <a:ext cx="20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4920" y="317520"/>
            <a:ext cx="2590560" cy="1766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6257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57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ell Home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6257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6ABD-63A0-4745-842F-FE24710DD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333760" y="64134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56840" y="64134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" action="ppaction://hlinksldjump"/>
          </p:cNvPr>
          <p:cNvSpPr/>
          <p:nvPr/>
        </p:nvSpPr>
        <p:spPr>
          <a:xfrm>
            <a:off x="3200400" y="6337440"/>
            <a:ext cx="2666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4" action="ppaction://hlinksldjump"/>
          </p:cNvPr>
          <p:cNvSpPr/>
          <p:nvPr/>
        </p:nvSpPr>
        <p:spPr>
          <a:xfrm>
            <a:off x="3809880" y="6261120"/>
            <a:ext cx="1524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833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86200" y="320040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29052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560" y="2304000"/>
            <a:ext cx="9076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Chromosomes are rod-shaped structures found inside every cell of the body which contain genes, the information that determines all of an individual's characteristics. Normal human cells contain 46 chromosom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29052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560" y="2304000"/>
            <a:ext cx="9076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Chromosomes are rod-shaped structures found inside every cell of the body which contain genes, the information that determines all of an individual's characteristics. Normal human cells contain 46 chromosom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609480"/>
            <a:ext cx="61722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omosomes are rod-shaped structures found inside every cell of the body which contain genes, the information that determines all of an individual's characteristics. Normal human cells contain 46 chrom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picture below to see a video clip relating to chromosomes and the genetic information that they co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86200" y="320040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29052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560" y="2304000"/>
            <a:ext cx="9076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Chromosomes are rod-shaped structures found inside every cell of the body which contain genes, the information that determines all of an individual's characteristics. Normal human cells contain 46 chromosom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29052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560" y="2304000"/>
            <a:ext cx="9076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Chromosomes are rod-shaped structures found inside every cell of the body which contain genes, the information that determines all of an individual's characteristics. Normal human cells contain 46 chromosom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609480"/>
            <a:ext cx="61722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omosomes are rod-shaped structures found inside every cell of the body which contain genes, the information that determines all of an individual's characteristics. Normal human cells contain 46 chrom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picture below to see a video clip relating to chromosomes and the genetic information that they co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86200" y="3200400"/>
            <a:ext cx="43434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003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9052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560" y="2304000"/>
            <a:ext cx="9076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Chromosomes are rod-shaped structures found inside every cell of the body which contain genes, the information that determines all of an individual's characteristics. Normal human cells contain 46 chromosom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29052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560" y="2304000"/>
            <a:ext cx="9076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Chromosomes are rod-shaped structures found inside every cell of the body which contain genes, the information that determines all of an individual's characteristics. Normal human cells contain 46 chromosom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609480"/>
            <a:ext cx="73152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ytoplasm is composed of water, minerals, vitamins, salts, a variety of chemicals, as well as different organelles, and it is a critical part of the structure of the c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links below to view two short video clips about the cytoplasm. Then write a concise explanation of the role that cytoplasm plays in the processes that occur within a cell. Next, explain how a specific type of organelle, the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endoplasmic reticulum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s within the cell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5280" y="342900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952880" y="36576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0528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elles: The Endoplasmic Ret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29052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560" y="2304000"/>
            <a:ext cx="9076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Chromosomes are rod-shaped structures found inside every cell of the body which contain genes, the information that determines all of an individual's characteristics. Normal human cells contain 46 chromosom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29052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560" y="2304000"/>
            <a:ext cx="9076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Chromosomes are rod-shaped structures found inside every cell of the body which contain genes, the information that determines all of an individual's characteristics. Normal human cells contain 46 chromosom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1800" y="6094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tatio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1800" y="1157400"/>
            <a:ext cx="7315200" cy="34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de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roducing the Cell. Rainbow Educational Media Med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7. http://www.unitedstreaming.co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ages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ellular structures; cytoplasm, membrane, nucleus, and chromosomes. By Paul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qua.2004. Discovery Education. 01 March. 2004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unitedstreami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ell with cytoplasm highlighted. By Paul Fuqua.2004. Discovery Edu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1 March. 2004  http://www.unitedstreaming.com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romosomes. By Paul Fuqua.2003. Discovery Education. 01 March. 2004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unitedstreami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90720" y="5638680"/>
            <a:ext cx="707760" cy="457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27280" y="56260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k Marchessaul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4T12:07:57Z</dcterms:created>
  <dc:creator>Discovery Education</dc:creator>
  <dc:description/>
  <dc:language>en-US</dc:language>
  <cp:lastModifiedBy>DCI</cp:lastModifiedBy>
  <dcterms:modified xsi:type="dcterms:W3CDTF">2005-07-14T19:36:13Z</dcterms:modified>
  <cp:revision>18</cp:revision>
  <dc:subject/>
  <dc:title>Slide 1</dc:title>
</cp:coreProperties>
</file>